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43-7755-4159-98B1-62F24C5D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EA2-3FF4-4B13-BBC0-1FE9C793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B5B-A583-4D56-A2A7-1C7C5054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EEA-22C5-4C63-AE2D-55ACDC95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2B4-BE57-43A1-A354-365EE288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190-870F-4B36-8D73-18022FE6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465-223A-4C7B-9C95-1E11829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DEE-800D-4A6B-A925-5DD81677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ECE-A5DC-4FE1-BC48-FC27CC13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D52-63CE-4059-A36A-EAB14E2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553-FB73-4C64-B478-ECA3EA69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91F-86E0-4484-A28F-B9ED942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8F3-1251-460A-B2A3-093766EC4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ord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5"/>
          <p:cNvSpPr/>
          <p:nvPr/>
        </p:nvSpPr>
        <p:spPr>
          <a:xfrm>
            <a:off x="914400" y="495288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aja, bonita, morena, y muy simp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5"/>
          <p:cNvSpPr/>
          <p:nvPr/>
        </p:nvSpPr>
        <p:spPr>
          <a:xfrm>
            <a:off x="1752480" y="1143000"/>
            <a:ext cx="2057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762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95280" y="3048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Ecuador, de la capit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25909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048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30481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tres y cua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Alm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direcc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95280" y="304812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726 Calle oc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6"/>
          <p:cNvSpPr/>
          <p:nvPr/>
        </p:nvSpPr>
        <p:spPr>
          <a:xfrm>
            <a:off x="1828800" y="5335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o en Miam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4"/>
          <p:cNvSpPr/>
          <p:nvPr/>
        </p:nvSpPr>
        <p:spPr>
          <a:xfrm>
            <a:off x="35053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5"/>
          <p:cNvSpPr/>
          <p:nvPr/>
        </p:nvSpPr>
        <p:spPr>
          <a:xfrm>
            <a:off x="1752480" y="11430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su professión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19320" y="3429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o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invier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nero, febrero, y marz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primave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143000" y="32004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abril, mayo, y jun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vera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ulio, agosto, y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fecha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26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6"/>
          <p:cNvSpPr/>
          <p:nvPr/>
        </p:nvSpPr>
        <p:spPr>
          <a:xfrm>
            <a:off x="182880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meses de otoñ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143000" y="320040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octubre, noviembre, y dic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19320" y="13716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295280" y="304812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ñana es el sába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u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n las chicas de Columb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 y Ju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30481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va, la novia de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14400" y="29718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Cartagena, una ciudad costera de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219320" y="27432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enso ir al cine para ver una nueva pelícu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5"/>
          <p:cNvSpPr/>
          <p:nvPr/>
        </p:nvSpPr>
        <p:spPr>
          <a:xfrm>
            <a:off x="1752480" y="380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5280" y="304812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“Tortilla Soup” con Hector Elizon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167652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295280" y="27432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ir a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5"/>
          <p:cNvSpPr/>
          <p:nvPr/>
        </p:nvSpPr>
        <p:spPr>
          <a:xfrm>
            <a:off x="19051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a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película empieza a lasa ocho y di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5"/>
          <p:cNvSpPr/>
          <p:nvPr/>
        </p:nvSpPr>
        <p:spPr>
          <a:xfrm>
            <a:off x="2362320" y="5335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7432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o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219320" y="838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uesta un bille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371600" y="27432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siete do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160020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6"/>
          <p:cNvSpPr/>
          <p:nvPr/>
        </p:nvSpPr>
        <p:spPr>
          <a:xfrm>
            <a:off x="6095880" y="4952880"/>
            <a:ext cx="27432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e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6"/>
          <p:cNvSpPr/>
          <p:nvPr/>
        </p:nvSpPr>
        <p:spPr>
          <a:xfrm>
            <a:off x="6095880" y="49528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uelven uestedes en cas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95280" y="3048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lvimos a eso de las o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3276720" y="4952880"/>
            <a:ext cx="25905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1828800" y="609480"/>
            <a:ext cx="2590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4"/>
          <p:cNvSpPr/>
          <p:nvPr/>
        </p:nvSpPr>
        <p:spPr>
          <a:xfrm>
            <a:off x="57150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6"/>
          <p:cNvSpPr/>
          <p:nvPr/>
        </p:nvSpPr>
        <p:spPr>
          <a:xfrm>
            <a:off x="32004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319896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219320" y="1371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4"/>
          <p:cNvSpPr/>
          <p:nvPr/>
        </p:nvSpPr>
        <p:spPr>
          <a:xfrm>
            <a:off x="3200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19320" y="1371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25 centav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4"/>
          <p:cNvSpPr/>
          <p:nvPr/>
        </p:nvSpPr>
        <p:spPr>
          <a:xfrm>
            <a:off x="3124080" y="495288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219320" y="1371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cuesta esta blusa blan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3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1905120" y="114300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6"/>
          <p:cNvSpPr/>
          <p:nvPr/>
        </p:nvSpPr>
        <p:spPr>
          <a:xfrm>
            <a:off x="6095880" y="4952880"/>
            <a:ext cx="25146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a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1523880" y="1219320"/>
            <a:ext cx="6172200" cy="441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Widerg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úmero de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4-46-12-1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1752480" y="114300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eff</cp:lastModifiedBy>
  <dcterms:modified xsi:type="dcterms:W3CDTF">2010-10-21T19:50:18Z</dcterms:modified>
  <cp:revision>5</cp:revision>
  <dc:subject/>
  <dc:title>No Slide Title</dc:title>
</cp:coreProperties>
</file>